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82A6-5B75-4D77-B51F-20923FB8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9584-5CC6-499F-BCE8-AB051C1A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7E24-6DB6-4011-A1C6-36D44C30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2490-B790-4E53-BB9A-42FD1C54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8F6F-CFED-4DFB-8C31-CD255E78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D506-3559-4D2B-969C-D698D191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EA28-7AD8-4FD5-AD2F-C588576B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ED00-C64D-4CD2-87B8-86902BB3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BA11-8317-44C0-B43D-DF316B92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BA68-38DC-4A0A-8732-D7B71128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631D-FF31-4F8B-BBD1-AAAF9464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C550-56FA-4D0A-B98D-C92C71D4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F7F5-52D9-4789-949B-7BCBC580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CDDC-259F-40D3-9162-06A6EBD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8D7B-0030-42FB-B3BB-4374C992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E382-87A7-4417-ACEC-032CF83C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0042-C487-49A4-84DF-967B37F9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9EAE2-37A6-4AB6-8A2F-7EA4008E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4D2C1-EF04-4252-BE83-B49E229C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23D2-C6CC-4B82-9020-F1E0093D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5614-6EE8-4204-BEAA-7FFB819C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1713-AA85-4AE8-892B-39E2634D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836D-37D9-4978-8ED1-299B8D1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91B8-DA4B-497E-A822-BC24F7F5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3307-56B3-4958-AD0F-A413F98EAE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BB65-F88D-4FF0-BD8A-9BFFE8F32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yFnFPcqrAw" TargetMode="External"/><Relationship Id="rId2" Type="http://schemas.openxmlformats.org/officeDocument/2006/relationships/hyperlink" Target="http://www.youtube.com/watch?v=VyFnFPcqrAw" TargetMode="External"/><Relationship Id="rId3" Type="http://schemas.openxmlformats.org/officeDocument/2006/relationships/hyperlink" Target="http://www.youtube.com/watch?v=VyFnFPcqrAw" TargetMode="External"/><Relationship Id="rId4" Type="http://schemas.openxmlformats.org/officeDocument/2006/relationships/hyperlink" Target="http://www.youtube.com/watch?v=VyFnFPcqrAw" TargetMode="External"/><Relationship Id="rId5" Type="http://schemas.openxmlformats.org/officeDocument/2006/relationships/hyperlink" Target="http://www.youtube.com/watch?v=z-wLMyG7iuw" TargetMode="External"/><Relationship Id="rId6" Type="http://schemas.openxmlformats.org/officeDocument/2006/relationships/hyperlink" Target="http://www.youtube.com/watch?v=z-wLMyG7iuw" TargetMode="External"/><Relationship Id="rId7" Type="http://schemas.openxmlformats.org/officeDocument/2006/relationships/hyperlink" Target="http://www.youtube.com/watch?v=z-wLMyG7iuw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king Space Utilization Simulato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t Han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har Shi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=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VyFnFPcqrAw</a:t>
            </a:r>
            <a:br>
              <a:rPr sz="1700"/>
            </a:b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www.youtube.com/watch?v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=z-wLMyG7iuw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 Model Feasibility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9640" y="4724280"/>
            <a:ext cx="1800360" cy="935280"/>
          </a:xfrm>
          <a:prstGeom prst="wedgeRectCallout">
            <a:avLst>
              <a:gd name="adj1" fmla="val 96384"/>
              <a:gd name="adj2" fmla="val -82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ty Benchmark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1700280"/>
            <a:ext cx="1728720" cy="79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 Distrib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95240" y="2062080"/>
            <a:ext cx="75535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fficient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484280"/>
          <a:ext cx="7651800" cy="50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6518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data can not accommodate extraordinary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has a viable business potential     - Positiv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119720" cy="4564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1557360"/>
            <a:ext cx="1079640" cy="1008000"/>
          </a:xfrm>
          <a:prstGeom prst="cloudCallout">
            <a:avLst>
              <a:gd name="adj1" fmla="val 73236"/>
              <a:gd name="adj2" fmla="val 4338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588000" y="3789360"/>
            <a:ext cx="182880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crease the operating profit of parking garage by renting  monthly members space during their abs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286000" cy="155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problem defi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a monthly renter is gone the space can be rented for a short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be the potential additional profit of this greedy operation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isk associated with our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27640" y="4867200"/>
            <a:ext cx="259740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renters are leaving their space mainly between 9:00 through 19: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Data of a parking lot traffic on hourly basis is given – normal d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00 penalty for unavailable space for monthly renter (reputation, customer base lo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ing charges by the hour are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let customers in if the lot i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let customer in if the probability of a monthly renter arrival is higher then decision thresh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y of $200 for un served monthly r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dant Simulation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026200" cy="468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59280" y="2276640"/>
            <a:ext cx="2449440" cy="647640"/>
          </a:xfrm>
          <a:prstGeom prst="wedgeRectCallout">
            <a:avLst>
              <a:gd name="adj1" fmla="val -113902"/>
              <a:gd name="adj2" fmla="val 154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ustom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292640"/>
            <a:ext cx="2305080" cy="936720"/>
          </a:xfrm>
          <a:prstGeom prst="wedgeRectCallout">
            <a:avLst>
              <a:gd name="adj1" fmla="val 85125"/>
              <a:gd name="adj2" fmla="val -1169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- Simulate Prob of space occup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5950080"/>
            <a:ext cx="2449440" cy="647640"/>
          </a:xfrm>
          <a:prstGeom prst="wedgeRectCallout">
            <a:avLst>
              <a:gd name="adj1" fmla="val 133083"/>
              <a:gd name="adj2" fmla="val -8921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dant Simul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767640" cy="442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32360" y="3213000"/>
            <a:ext cx="22320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80% of the time spots are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03640" y="3645000"/>
            <a:ext cx="1728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dant Simulation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026200" cy="4682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59280" y="2276640"/>
            <a:ext cx="2449440" cy="647640"/>
          </a:xfrm>
          <a:prstGeom prst="wedgeRectCallout">
            <a:avLst>
              <a:gd name="adj1" fmla="val -113902"/>
              <a:gd name="adj2" fmla="val 154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ustom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4292640"/>
            <a:ext cx="2305080" cy="936720"/>
          </a:xfrm>
          <a:prstGeom prst="wedgeRectCallout">
            <a:avLst>
              <a:gd name="adj1" fmla="val 85125"/>
              <a:gd name="adj2" fmla="val -1169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- Simulate Prob of space occup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5950080"/>
            <a:ext cx="2449440" cy="647640"/>
          </a:xfrm>
          <a:prstGeom prst="wedgeRectCallout">
            <a:avLst>
              <a:gd name="adj1" fmla="val 133083"/>
              <a:gd name="adj2" fmla="val -8921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Make a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0:36:18Z</dcterms:created>
  <dc:creator>Zohar</dc:creator>
  <dc:description/>
  <dc:language>en-US</dc:language>
  <cp:lastModifiedBy>Zohar</cp:lastModifiedBy>
  <dcterms:modified xsi:type="dcterms:W3CDTF">2006-11-29T14:26:59Z</dcterms:modified>
  <cp:revision>15</cp:revision>
  <dc:subject/>
  <dc:title>Parking Optimizer</dc:title>
</cp:coreProperties>
</file>